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B529-26EF-4C81-B336-432F8334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A92D4-B2EF-4A78-85DE-AE50EE6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70A2-56D2-428F-8FBF-6AF12A48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4EEB-C097-4C77-A7B0-1246B275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11D6-0173-4A76-9A60-B12B0F09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E56D-54D9-4781-8EB3-F54CEB02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6666-5027-4566-ACDD-55893F23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8E21-9DB2-4436-B673-836EDD27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E9F6-FA4B-4F9F-AC6A-75DBD91F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F251-E4D8-4219-A43D-B7837DF4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D760-EFA7-45CD-A584-BAEC4635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61A1B-3F9A-4C7C-9DC6-4BCD23A6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C396-490F-4EE6-A09B-598CA747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6A1B-6030-434E-B085-9F0E3D2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2CFF-9B9C-4210-B7F0-E9512215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B86A-E210-4162-90DA-7D979A6D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3CDC-FAB1-4A3F-BE69-C0F98FA5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8463-7558-4058-ACF9-E114140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9C65-2BCA-453B-A50F-39FA3BEA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483D-09AE-4543-9959-0F98011E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203B-A2BC-4CAC-A729-B240E1FE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C0D5-8C78-4F95-A74C-E050A84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E837-1C74-41EE-8924-766A188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AC7D-5BB0-468F-A40A-A917C016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71C0-7332-4750-8323-06DCA4674C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1790-3DBE-4EE7-B868-A01A97D4B7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Bradley Hand ITC TT-Bold"/>
              </a:rPr>
              <a:t>Le Conditionn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 TT-Bold"/>
              </a:rPr>
              <a:t>or, saying what you WOULD do, in French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 TT-Bold"/>
              </a:rPr>
              <a:t>How do I form the Conditiona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Start with the stem for the Future Ten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-er &amp; -ir - infinitive, -re infinitive minus -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Add the endings of the Imperfect Ten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-ais, -ais, -ait, -ions, -iez, -a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Exemples: 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je parle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je fini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je vendr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 TT-Bold"/>
              </a:rPr>
              <a:t>How about irregulars?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radley Hand ITC TT-Bold"/>
              </a:rPr>
              <a:t>Irregulars also have the same stem as for the Future, plus the endings of the Imper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être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e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se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v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u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’au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faire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fe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fe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alle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i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’i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dev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dev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dev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pouv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pour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pour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oul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oud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voud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en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iend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viendr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oir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verr-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verrais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 TT-Bold"/>
              </a:rPr>
              <a:t>When do I use it?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Use the Conditional to mean “would...” when there is a condition on the action - NOT when it’s a past ha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Je voudrais une glace (si possi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I’d like an ice cream (if possi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The French Conditional is parallel to the English in “if” constru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For example: If I had the money, I would go to F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i j’avais l’argent, j’irais en F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Bradley Hand ITC TT-Bold"/>
              </a:rPr>
              <a:t>Par exemple..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Si j’étais en Provence, je resterais quelques jours à Avignon, où je danserais sur le pont et visiterais le Palais des Pa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9200" y="1981080"/>
            <a:ext cx="40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Bradley Hand ITC TT-Bold"/>
              </a:rPr>
              <a:t>Un autre exemple..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Si j’étais sur la côte Atlantique, j’irais à Royan, où je me bronzerais sur la belle plage qui s’appelle La Grande Conche et où je verrais des bâtiments reconstruits après la Seconde Guerre Mondi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2203560"/>
            <a:ext cx="40384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Bradley Hand ITC TT-Bold"/>
              </a:rPr>
              <a:t>Traduisez...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radley Hand ITC TT-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Si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nous dînerions en vi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il serait de retour à 6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tu pourrais voir ce fil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elle enverrait la lett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nous le fer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je verrais mes am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elle n’aurait pas fai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radley Hand ITC TT-Bold"/>
              </a:rPr>
              <a:t>...ils resteraient chez eu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Bradley Hand ITC TT-Bold"/>
              </a:rPr>
              <a:t>Express in French...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I would write a letter, bu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We would have to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She would like to see 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Would you go by pla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He’d buy the tickets, 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I would be happ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They would come, 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He would pay me, 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She would ea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</a:rPr>
              <a:t>I would have more money, i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radley Hand ITC T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37:59Z</dcterms:created>
  <dc:creator>Julia Brown</dc:creator>
  <dc:description/>
  <dc:language>en-US</dc:language>
  <cp:lastModifiedBy>Ministry of Education</cp:lastModifiedBy>
  <dcterms:modified xsi:type="dcterms:W3CDTF">2009-05-06T20:22:06Z</dcterms:modified>
  <cp:revision>5</cp:revision>
  <dc:subject/>
  <dc:title>Le Conditionnel</dc:title>
</cp:coreProperties>
</file>